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6EDD35-D5E2-4D0E-9144-840AA2287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f the design presented during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verything is fully design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ost designed features working prototype exi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more user-friendly interface than Qv-objects (constructors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more complex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intuitive definition of transfor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 class serves as interface between ARVE and VR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ges inside VRWeb minimal (upgrade will not hu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adding objects into existing display not in original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removing (and updating) objects inside existing display still not done (some ide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calling ARVE from VRWeb not done (some ide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inside VRWeb are in DB without identity =&gt; this will have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 loop can be interupted from the browser window and transfere control back to A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URL not yet implemented (but eas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(and update) not ye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not yet desig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Qv-objects in vrwe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hepvrwe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libhepvrweb.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uture shared libr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aďve use to show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use via Control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l PlottableObject in yet, but will be s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can run (ARVE, VRWeb) - change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::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VE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= call from the PlottableRepresentant inside Scene to Plottable - graphical object should have identity (not the case in VRWe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(shared) liraries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ntrol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cene + “HEP-Scene” ex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ybe) PlottableModels and PlottableReprese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D ready, should be only put into proper format (see WWW and com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l package hopefully till nex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needed (see TopLevel ta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y author of Plottable will create PlottableModel and Plottable Represen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used by many different applications (different n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developers will (eventually) con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” program will keep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 layers will change several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easy to plug-in any new graphical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easy modify way of u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oftware should not be client of some other package (Iris Explorer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hould be able to broadly interact with the whole program 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ost important relations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ControlStructure will access GUI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ain compon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table (+PlottableModel+PlottableRepresentant) -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 - gra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List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972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rs to other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972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with ControlStructure and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List probably connect with some GUI window for selecting Plottables, Scenes and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List probably connect with some GUI window for selecting Plottables, Scenes and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to test behavior and design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PlottableRepresentant&lt;-&gt;Scene may be very different =&gt; intermediate class implementing concrete algorithm (AsciiPlottableRepresent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works under Unix; PC needs MSVC++ 4.0 and doesn’t work with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ore platforms than any other VRML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y faster than any other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real browser on 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well understandable, inline comments usually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VRML, also S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RML 1.0 objects implemented as Qv objects, they correspond to OpenInventor So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usually as public data members =&gt; HEP-VRWeb objects with reasonable member function (and constru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a3a6f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4440" y="2641680"/>
            <a:ext cx="58294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Text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and Help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to At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las Software Week, 3Feb97,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688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807732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elper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RWebCube : public Qv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Cub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Cube(float w, float h, float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RWebObjectInSpace : public QvSepa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ObjectInSpace(QvNode&amp; n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t1, float t2, float t3,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r1, float r2, float r3)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5156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rfacing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VRWeb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to AT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520" y="2211480"/>
            <a:ext cx="6019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rfac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R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(int argc, char* argv[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un()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Interview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eadFile(char* 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eadURL(char* 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addNode(QvNode* n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postMessage(char* messag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init(int argc, char* argv[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edra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session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Interview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Viewer scen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Group roo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top-level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lottable Represen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RWebPlottableRepresen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plot(Scene&amp;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emove(Scene&amp;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void update(Scene&amp;); --- remove,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notify(PlottableModel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RWeb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splay(PlottableRepresentant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remove(PlottableRepresentant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void update(PlottableRepresentant*); --- remove,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5156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&lt;vrwe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"VRWebSphere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"VRWebCube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include other helpe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with libvrweb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main(int argc, char* argv[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 aVRWeb(argc, argv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Sphere sphere(2)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create other objects, colors, transformation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Separator funnyObject;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nyObject.children-&gt;append(&amp;red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nyObject.children-&gt;append(&amp;sphe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 add other objects, colors, transforma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Web.postMessage("ARVE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Web.addNode(&amp;transla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Web.addNode(&amp;funny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Web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698400" cy="136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5156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unning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800" y="3505320"/>
            <a:ext cx="569592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2895480"/>
            <a:ext cx="1371600" cy="990720"/>
          </a:xfrm>
          <a:prstGeom prst="line">
            <a:avLst/>
          </a:prstGeom>
          <a:ln w="7632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4382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an interact with running A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lans </a:t>
            </a:r>
            <a:br>
              <a:rPr sz="3600"/>
            </a:b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Top Level Desig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notification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ol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to re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ottableMod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(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ottableRepresen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as distribu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URD and Design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lans</a:t>
            </a:r>
            <a:br>
              <a:rPr sz="3600"/>
            </a:b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VR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fu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RWebPlottableRepresen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RWeb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uit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P-VRWe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hared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on W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RWeb 2.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same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enInve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Needed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,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ottable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ottableRepresen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lients (HEP-Inventor, Iris Explorer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use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U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ig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tio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sily defin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raphical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ubdom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6324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ntrol Do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61722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potentiona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ott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om GUI) create initi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ene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ene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e (via GUI or 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| remove | update    (Plottable* | Scene&amp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(Plottable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peration </a:t>
            </a:r>
            <a:r>
              <a:rPr b="1" i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71640" y="2514600"/>
            <a:ext cx="4906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sciiText Sc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0560" y="82404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51560" y="750960"/>
            <a:ext cx="777960" cy="13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640080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14440" y="812880"/>
            <a:ext cx="582948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vent Display</a:t>
            </a:r>
            <a:br>
              <a:rPr sz="1800"/>
            </a:br>
            <a:r>
              <a:rPr b="1" lang="en-US" sz="36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VRWeb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VRML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z University of Technology und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++ and MSVC++,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I Irix, Sun Solaris and OS, DEC Alpha and Ultrix, HP-UX, IBM AIX, Linux, FreeBSD, Windows NT and 95 and 3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into Java to enable VRML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RWeb</a:t>
            </a:r>
            <a:br>
              <a:rPr sz="1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raphical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440" y="2641680"/>
            <a:ext cx="582948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ML 1.0: </a:t>
            </a:r>
            <a:r>
              <a:rPr b="0" lang="en-US" sz="32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nventor: </a:t>
            </a:r>
            <a:r>
              <a:rPr b="0" lang="en-US" sz="32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So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Web: </a:t>
            </a:r>
            <a:r>
              <a:rPr b="0" lang="en-US" sz="32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Qv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0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-VRWeb: </a:t>
            </a:r>
            <a:r>
              <a:rPr b="0" lang="en-US" sz="32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VRWeb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6880" y="671400"/>
            <a:ext cx="779400" cy="136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75240" y="674640"/>
            <a:ext cx="7779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us Hrivnac</dc:creator>
  <dc:description/>
  <dc:language>en-US</dc:language>
  <cp:lastModifiedBy>Julius Hrivnac</cp:lastModifiedBy>
  <cp:revision>0</cp:revision>
  <dc:subject/>
  <dc:title>Event Display Top Level Design</dc:title>
</cp:coreProperties>
</file>